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8532-2806-492A-9465-5A63D2A0E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8D06-80E0-419B-9DBD-304FC1B20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06E4-65E8-4A00-8576-5485DAB85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E25F-C52E-4558-8CEE-4A23CECFB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CBB3A-6223-4908-AAF7-1B9323F70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99C90-737F-4B19-95F9-C95E751E9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B024B-E540-4630-A43C-281D82E34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6A11B-1B3F-4DE6-A0A4-4CF22D3B5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45E6A-1A18-415A-92F6-22A91FEB0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340EE-6B9A-4810-929A-68D4FC235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83E21-6C3C-4F1C-BE10-364E0C687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DC78-165B-4F49-9E88-18A99DBD3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7178F-6838-4A65-9755-CC2763821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0C74A-67E3-4D72-A27D-DF8187F45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F833A-106D-44AE-8AC0-BDA68FCE5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15375-46C6-457A-BF8A-B901C1473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62718-07FD-4CB6-8B18-F9ADF3329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1DFDF9-A1BD-4430-B6AE-F30E3115D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129118-8B7A-40FF-B8A4-FE8260C2A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FF816F-D2C0-4F7A-9C18-8FBF26C62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CE05F3-D9BC-4C3D-A81A-B2F68FC1E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DB433B-0B31-4BCD-8E1C-199C68E16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E21F-A808-4AAA-AE22-1B89C7EE6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C9B144-BB17-42D2-AA17-EA9DCCE51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D2AF5B-9BEE-4B9B-90A3-901881F92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12D48C-465F-4464-9138-91DAC49AB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97C905-F4B0-4336-8F9A-9A332C420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2267F9-E778-431F-95C1-75E1F0F90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A1CE53-F4F0-440E-B289-5BC7C0F50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3C5102-A00A-45B1-B911-1F476F7ED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A70C975-C589-4D1A-AA0F-E132D923C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5FFF53F-4050-469C-9A6B-C604D1106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F729954-780E-4C34-848F-AFE3791F4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8E65-E7E3-4ED6-A9A4-57DC46FAE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998469C-B0ED-4E1D-B9DF-1B7E7207B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985BA34-6258-4D8F-B6C2-E614DA66B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3B64106-BBB2-4324-A2DE-7E961B265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DB46151-7554-4B5B-AA3F-911AABBCA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6130184-21D2-4EF4-9379-D710D3DFE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2536974-3D46-4B9C-9F3B-00A7322F9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196D9BB-F819-4DD8-B045-809042FAA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3E52022-FA76-4494-8C1A-CB134E778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947D8DA-D96E-4051-AF4E-1822BD849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1D867F-B37F-4B3A-A704-CADBE42F0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BF15-5FD8-4A5C-B901-8551FE397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2033B0-E4F8-4273-927F-B736C0A53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0930D0-D821-4A52-B107-B0B50E477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A6FE84-A22B-4004-8EBA-9FCA631A7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0DBFC1-8D8F-49C2-803F-B6E781B97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BCB20E-BD70-48F6-8B5E-0198F2B7B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D1B72F-DD0F-4DEC-B121-B52073666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701D0C-C88D-4235-8451-70921DD20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B756A0-548A-465D-AC73-4792EA924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295A55-AFE8-42FA-9853-6BF2F8EAC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425609-C8D4-4B18-9FED-E56B71746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0095-494C-4E04-8971-0E76AC6AD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C86DF4-7AD1-415F-96B5-2EE8C31E7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F5888C-14D8-4347-9C8E-08840C40D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59EF93-A0DD-4B55-ABA3-8CF12A85C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2C4185-82C1-4328-92F1-81E45EF9D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E6B2C0-5EAC-4C3C-94A6-B51A99032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676E74-02CF-4506-9841-145FF3DC1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031459-11D6-4591-860D-BC9613E5A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B58E4A-5E7F-431A-B0E3-FE481D32E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5FDC93-C67C-4CF0-B920-9E403C5DA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DF9800-FE44-477C-9EAF-D65104F02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1176-C4E5-4452-97A7-08CEC77BA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05C106-752F-4FEC-A42D-86F45B73A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59723E-37CE-454A-92B4-A43580058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0E6933-A789-48EE-97F3-3BB8688F1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0B5D186-6D04-497F-950D-194649A9E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919E4BF-0E89-4584-89C2-54A396B05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03957C3-6045-4BF4-ABF2-075CC009E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0356E37-6431-4148-A41D-808B7C3BA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2557E79-BFCE-45A2-AA15-28780A4D1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10BF711-34B2-4A49-A1B0-2E4CD3A9C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43F6F48-C7B5-4A1D-A741-792851478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0015-8935-40AA-844B-0FFBC5E02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E9485D9-E48E-4D58-A5F0-8A019A9F1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BDF975A-99A6-4542-9D87-D67661985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05CED62-6B7D-499D-9D30-F857A7B28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C27514A-AAE2-419F-9721-8DB6A3716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6CB7BB5-E3BB-46C4-BA56-C74403E35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1FDBA1-CF75-470F-85A1-00389D91D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D22CB1-7161-4317-A930-0E9AC4DE5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F596FA-8DB8-4481-A974-B15833EB4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F876F8-62E3-474C-BB5A-96D2C1491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243929-E273-462E-B829-D55B79BDE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A3E5-A1EA-417D-AB15-B9BCD17DC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1A2F74-9002-41B1-A894-AC2803EC1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46FC02-A2C1-45B1-8BCF-D6203F63C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FEA312-FE3A-408D-8684-1A43A902D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E710BF-E3DF-47D5-A94B-244D73692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B2C8F4-23DF-4DBF-843D-082DFF3FF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EE34E7-1B62-4790-8D64-8993AFE9E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E184FB-42A9-46F9-803A-EADFA4F73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8E065-3345-43F6-AF9E-F1309CFB7C8B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5FFB2-9856-44BE-9C3B-83465089A590}" type="slidenum">
              <a:rPr b="1" lang="en-US" sz="1400" spc="-1" strike="noStrike">
                <a:solidFill>
                  <a:srgbClr val="ebddc3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D796F-643D-4AF9-ACC9-2F7CC102AFA8}" type="slidenum">
              <a:rPr b="1" lang="en-US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9C23F-954E-41C3-8087-5994BE5DEAC6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AB07A-0AC1-473E-BA92-FF6A4AF16650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CDBF5-FB4B-48C5-BBF8-95165E5767E6}" type="slidenum">
              <a:rPr b="1" lang="en-US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107A6-167D-4093-AB11-667C042B5110}" type="slidenum">
              <a:rPr b="1" lang="en-US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F1A03-9BF5-46BA-9812-7F404D9ABED9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UNIT8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Shea and chris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/>
          </p:nvPr>
        </p:nvSpPr>
        <p:spPr>
          <a:xfrm>
            <a:off x="1371600" y="2742840"/>
            <a:ext cx="712296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5f55"/>
                </a:solidFill>
                <a:latin typeface="Tw Cen MT"/>
              </a:rPr>
              <a:t>Interest rates and Money supply cannot be controlled at the same time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5f55"/>
                </a:solidFill>
                <a:latin typeface="Tw Cen MT"/>
              </a:rPr>
              <a:t>When stabilization of Money occurs interest rates increase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5f55"/>
                </a:solidFill>
                <a:latin typeface="Tw Cen MT"/>
              </a:rPr>
              <a:t>When Stabilization of interest rates occur Money supply will shoot up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"/>
              </a:rPr>
              <a:t>Effects of Money Supply change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Monetarism vs. Keynesia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Don’t differ significantly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Differences do aris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ontrol of money supply or interest rat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Velocity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# of times per year an average dollar is spent on goods and servic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Ratio of GDP to # of sellers in money stock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V=(GDP)÷(Money Stock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Equation of exchang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(Money Supply)×(Velocity)=GDP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Quantity theory of money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urns equation of exchange into economic mod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594720" indent="-25344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%∆M+%∆V=%∆P+%∆Y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Economists can predict GDP growth by controlling growth of money supply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different measure of velocity for M1 and M2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594720" indent="-25344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Examination shows neither is constant in short run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94720" indent="-25344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Models based on constant velocity have not fared well and strict quantity of money not good AD model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94720" indent="-25344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94720" indent="-25344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94720" indent="-25344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Determinants of Velocity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requency of Cash Infusion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More frequent cash payments mean that people can conduct their transactions with lower cash balances because they will want to hold less money will circulate faster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Efficiency of the payment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Ability to transfer money between account quickly has led to an increase in velocity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Determinants of Velocity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Interest Rat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Lower interest rates makes savings account less profitable makes people hold more money increasing velocity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Monetarist’s approach 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Believe that %∆M+%∆V=%∆P+%∆Y is best way to study economic growth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2 main question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59364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What does this event do to growth rate of money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59364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What does this do to velocity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1" marL="318960" indent="-318960">
              <a:spcBef>
                <a:spcPts val="700"/>
              </a:spcBef>
              <a:buClr>
                <a:srgbClr val="94b6d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Monetarists look at Nominal GDP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318960" indent="-318960">
              <a:spcBef>
                <a:spcPts val="700"/>
              </a:spcBef>
              <a:buClr>
                <a:srgbClr val="94b6d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Keynesians look at Real GDP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Neither look at Supply side of economy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upply sid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Keynesians use i to predict how monetary policy affects aggregate demand and then use aggregate supply curve to see the inflationary consequenc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Monetarist use velocity and then use the supply side to see how nominal demand affects gets apportioned between changes in production and pric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Neither is strictly better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Fed Control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Monetary policy is not the only type of policy that effects interest rat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Increases in government spending or taxes increase interest rates which reduces velocity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Restrictive policies push interest rates down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ed cannot control interest rates and money supply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6T12:39:52Z</dcterms:created>
  <dc:creator>miller.s784</dc:creator>
  <dc:description/>
  <dc:language>en-US</dc:language>
  <cp:lastModifiedBy>HP Authorized Customer</cp:lastModifiedBy>
  <dcterms:modified xsi:type="dcterms:W3CDTF">2009-01-27T21:53:16Z</dcterms:modified>
  <cp:revision>7</cp:revision>
  <dc:subject/>
  <dc:title>Unit8</dc:title>
</cp:coreProperties>
</file>